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applause.wav" ContentType="audio/x-wav"/>
  <Override PartName="/ppt/media/arrow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E8D-A881-4AA8-8EE9-B7532FF4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838-3D69-4FF8-B437-2B400CE0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EC2-20B3-46F5-8980-D3D04B76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ABC-1C79-41BD-9E42-1FFB30EA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0A23-390F-4FB1-B355-2C6816FB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00C9-FD4E-484F-A5F1-16C5832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3D72-1E67-4B2D-8F76-1AE74C5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C2E-55C9-4C5E-900A-30DA02A9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8DC6-4F1A-48AB-B491-CA3BE0B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5D4-01C2-438E-84F5-C69EB9FA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CFF8-B954-4411-9A20-0760036C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142-5505-4477-AE38-A0C3F1D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6BBA-E910-4CB6-B6A3-183B722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1B34-58D3-4FD0-A2DD-0229933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7C5A-85B2-40FF-BF60-21C1D361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DE7-3AE2-4236-AA20-7856099D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1A0A-D7BF-4A04-B8B2-49C8814B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61F-3746-4E41-854C-3956FEE8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FF7-FD23-4504-BDDB-439C7098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F34-9E28-4C60-A27E-EF2E6A6E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A39-0B3D-4B9A-8B4C-4231BBC9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CC2-8F61-4BE1-80E7-AD60670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C77-EB07-4C79-98FA-F0F2852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7F5-1024-41D2-AC09-E3E24E4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B32C-AC7F-437B-BC80-D76D5F06A0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6D5-C22F-4000-870F-DF38C2654A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google.com/imgres?imgurl=http://thumb1.shutterstock.com.edgesuite.net/display_pic_with_logo/80014/80014,1176118759,1/stock-photo-seaport-vladivostok-spring-floating-of-ice-moored-yachts-war-ships-3040512.jpg&amp;imgrefurl=http://www.shutterstock.com/pic-3040512/stock-photo-seaport-vladivostok-spring-floating-of-ice-moored-yachts-war-ships.html&amp;usg=__BK5kNg4igJFFtXCaKvMkhgIY9hM=&amp;h=358&amp;w=450&amp;sz=56&amp;hl=en&amp;start=10&amp;zoom=0&amp;um=1&amp;itbs=1&amp;tbnid=EDV8k4gRWES94M:&amp;tbnh=101&amp;tbnw=127&amp;prev=/images%3Fq%3Dice%2Bin%2Brussian%2Bseaports%26um%3D1%26hl%3Den%26sa%3DN%26rls%3Dcom.microsoft:en-us:IE-SearchBox%26rlz%3D1I7ADSA_en%26tbs%3Disch:1" TargetMode="External"/><Relationship Id="rId6" Type="http://schemas.openxmlformats.org/officeDocument/2006/relationships/image" Target="../media/image7.jpe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entury Gothic"/>
              </a:rPr>
              <a:t>The Movement is Always Tougher in Russ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24280" y="28951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alibri"/>
              </a:rPr>
              <a:t>Ethan Sit and Quynh Vu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2666880"/>
            <a:ext cx="1193760" cy="141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2133720" cy="1415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Before We Start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Movement in Russia gets people in Russia from place to place. It influences trade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which brings needed goods to the Russian people. However, certain problems lik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its size, climate, and physical features have an impact on its movement,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therefore its economy. This presentation covers the problems with Russian transport 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how the Russian people solved the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Seaport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here are seven seaports in Russia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Kaliningra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St. Petersburg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Okhot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 Murmans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Vladivostok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Astrakha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-Petropavlovsk Kamchatsk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 problem with these ports is that they are spaced fa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part from each other. Ships have to travel another 200 mile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o get the most inland part of Russia, where Kaliningrad i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located. Then, shippers have the choice to travel another 50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iles to the port of St. Petersburg. This consumes lots of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time,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fuel, and therefore money. However, taxes have been cut for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foreign  goods coming into Kaliningrad, saving money, and possibly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ncreasing trad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Another problem happening in these ports is that port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have ice or frost at some point of the year. In fact, there i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permafrost, soil that stays below freezing point, or  zero degree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Celsius, fro two or more years. Permafrost delays mining, an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mportant part of Russia’s economy. Ice in the seaports prevent the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ovement of boats, so  a special purpose boat or  ship called a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cebreaker is used to separate the ice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4572000"/>
            <a:ext cx="411480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24480" y="2666880"/>
            <a:ext cx="2438640" cy="1781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26668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arrow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Railways in Russ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Railways in Russia account for  2.5 % percent of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Russia’s GDP, or Gross Domestic Product. </a:t>
            </a: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Российские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железные дороги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or Russian Railways </a:t>
            </a: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is mostly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state-run. Russian Railways is one of the biggest railway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companies in the world, with 0.95 million employees, a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monopoly within it. In fact, the total length of the line is 85,000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kilometers( 53,130 miles), only surpassed by the United States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alibri"/>
              </a:rPr>
              <a:t>railway system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61000" y="3164040"/>
            <a:ext cx="4154400" cy="2550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hree rail tracks 350.jpg"/>
          <p:cNvPicPr/>
          <p:nvPr/>
        </p:nvPicPr>
        <p:blipFill>
          <a:blip r:embed="rId2"/>
          <a:stretch/>
        </p:blipFill>
        <p:spPr>
          <a:xfrm>
            <a:off x="5181480" y="1219320"/>
            <a:ext cx="857520" cy="64764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3" name="arrow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4:14Z</dcterms:created>
  <dc:creator> </dc:creator>
  <dc:description/>
  <dc:language>en-US</dc:language>
  <cp:lastModifiedBy> </cp:lastModifiedBy>
  <dcterms:modified xsi:type="dcterms:W3CDTF">2010-12-15T14:11:30Z</dcterms:modified>
  <cp:revision>15</cp:revision>
  <dc:subject/>
  <dc:title> </dc:title>
</cp:coreProperties>
</file>